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439-CE08-415A-A378-F4C342CE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231-CAB4-47E1-A3EF-7E9F288D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9AC81-629F-48B7-BBFD-93972AA3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BDDB0-7C23-43C0-A944-87214370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FC668-953E-49D0-A7A7-03EA1E91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2EA0A-78CB-4E0B-899A-5F696F14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AD885-9972-4F4E-B8EC-A88B683F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EE625-6468-4E3B-9B7C-9292D996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D1F16-FC3F-4CE5-8DE1-F4F1065E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67BA4-3C03-42C5-BB11-7E1B1A6E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A2280-7E4C-4468-A181-F048EA25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17D0F-E3F1-4277-9420-73892836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54AB-36EC-4EF3-8967-E383595F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6DF01-3FCD-49EA-93B8-DBD7BADF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B4825-401F-46C5-A2B9-295F9781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9B382-3272-460B-ACFD-B4205BDA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1616D-4F50-40D6-8521-D78AB509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5C1FF-CD81-43F3-B838-401DDD5F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31F69-3832-42EC-AA28-2800B967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682AD-F110-4CB7-AF84-C3368333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FFBD0-3388-4AC4-AFD7-6922934D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58F63-EFA3-49FB-9DD7-287C3489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8D7EA-CD5F-4207-B6A4-B8CEECC9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994-A906-46D9-AA37-26B75796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AB360-5D84-44F2-927C-0C2E48B5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4FD3-39B3-4ECB-B4FB-15B28B94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595F-C125-4865-A79C-47DA9192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E092-FF54-428E-A2FB-3D1D0C30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2218-2B3C-4B92-A89E-CCB0A1CA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AD74-DA28-4BBA-B803-05A05984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052B-1927-445E-8417-EC79B808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7749-B454-43D9-98BD-961FF38D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592-6145-4E0C-AD85-8AD6A7AA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5AED-B801-43A7-BD40-ABF15638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8BDA-8FBA-4DAA-8EFD-64C69FE8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CF43-65DD-44A7-B006-701E788A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6DA0-3EBB-4ACA-AA93-4609550A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DA5F-660F-4101-AE2C-1957B6A1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A574-BCD7-4998-8FD6-C2DA344F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A198F-DF59-4741-8E99-54A26A73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3BC2C-D47B-4D76-972D-A1568E24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7CC53-8C00-4283-A265-2C1153ED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CE058-A43E-4664-996E-317299CD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492-35D0-416F-A872-9EC99978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CCE48-09A1-4FAC-89E6-06FA8FE0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BC4FE-4BB9-470A-866D-03F46E34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3D6B-9484-452A-9B7A-55021508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56A36-76EA-41FA-84A5-B0470990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84FE-7BAC-475B-88AE-A459ECDC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DD4F2-7321-477F-BDAA-435016DC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F009E-6B29-4690-B2FE-ABDC4FF7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C7BB6-46F1-4E8A-BBDD-C76C5F84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B9105-917F-4F36-8082-B85EED46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69F39-D376-4CF4-8903-B5619494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E09-C46D-4B24-90B8-A3CD80FB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32E0D-A60E-45C4-B838-0C8C59A7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82D0B-1B9F-4216-A350-1CFAA194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B2E65-2473-437D-ABEB-98DD8A0B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B7123-77F5-4682-B108-047D7C54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538C-2CD3-42DB-ABAC-F1645027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4F60A-B4E4-45D0-AD23-DDAA7A4B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DCE2D-8EBB-4D2B-8FF5-07FFAC3B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2DB6-EDEB-44F8-874E-5921116F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0A0B4-3820-4456-8823-4E4B4B78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8AA98-EF3E-427A-B668-A1BC2D6D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3DC-CBB9-4916-BEED-6F2E6179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71080-06D3-47E0-84BB-0E8FA2A6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5F0E1-5659-45F6-B0FC-3786970B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B948F-B086-422F-9218-D2F30B57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7EDFA-34F6-4C74-A837-9C2BEB9F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E8791-F14E-408B-8DEA-57CDE558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0AC29-7E22-462D-981F-F16A5978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4B1A2-A53C-4376-93E5-4E57F3E0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63C93-9058-4907-BF66-6FFB2C6A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C5C2F-8BED-4FFB-A929-A2724D47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4271B-2EDA-4E0A-B4C0-F15E8809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DE4-1DA0-456A-ABDD-5CBE2F25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B320B-E9A0-4993-925D-CD01F1C6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C6F5C-FC8B-4D29-8A51-745C9DC1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BFFC7-27D7-49DB-8825-E2438726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7A5CD-587E-4533-872B-DE20B31E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03EB6-C198-432D-B753-34530F42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DF98B-7A6C-4FE2-BFC5-1B8DC5C0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546EF-80DD-4814-B648-C72DE5D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09628-F2CE-4B5A-AD0C-3FAFE2DB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E6A39-180D-469D-991D-379CF9CD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E68B5-D6E7-45F3-A8D0-8BB24029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3DA-8214-4341-A1F7-CE79B6A7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F5AC8-2565-48BA-9C81-F7EC3453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2F8D1-46C0-46F3-8CF4-C706A885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37FF9-63EC-4239-BFB4-1135EE1F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F7CBF-87EC-4B05-AF38-3FDA86A5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8543D-EDCB-40A2-8125-16B0EA0B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6AF8D-C10C-4245-8AD0-E687D735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8C760-FBC3-4372-A186-3D7C2B81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1A485-FECE-4B38-BF1D-4F1A85A8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568EA-6F4B-4464-A75A-7F288F7C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E978B-9135-4139-AFD0-63724D0D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C1BF-5F51-441B-9122-FBF2569D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609BE-7D83-4B25-9031-DE39DA8E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DE690-D514-459E-9685-F5DBDE16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67AE3-DCF3-4DA7-A0B4-1408C774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3AB69-8F67-4865-B664-C7FDFE5D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06B8B-B8C4-45F8-AFD7-D1EBAD2A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19F6F-3DD8-4930-B77A-D0D1C31C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2001E-B3BF-4909-824E-38804D72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49EF3-29E4-47A6-AB07-9BA69F3D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76F1B-E100-40AF-8D1E-2A869703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C9458-6091-4CBD-B095-346F47C0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321-E420-4FED-A750-4B4995BE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72B06-8A76-4190-A217-D690D325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44863-0A8F-4D53-8444-35950C27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640CD-D2DC-43A3-9391-803A1C8B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C772A-20DD-4661-8E3C-BB90C8E3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D7A2D-2208-4841-A759-8B16BC46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EF92D-216B-4846-A14B-34EC5ABD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A8F07-A090-495D-B11F-594E1150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D8B09-6713-428B-832A-A1958983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D0498-E820-41D2-BE71-4E128ADF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F305B-8D86-460F-8461-95C57ED6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067D-60E6-47F0-B873-2C28E805D46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4D67-A186-4CB3-B739-FC58C84F2DF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BF41-4568-4C44-A112-09CA0366100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3807-A34C-4949-85C7-546DBB4B637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FE18-49AB-48A1-BBD2-9E8B848AFAE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1D90-DDD5-4B22-AAC4-1E306E6D942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6173-C21B-4F6C-8096-9990B470816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1D31-0800-4D95-A401-D5911DC6E83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5922-C9BE-4378-BFB7-A05F3129D68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B63A-2FE3-451F-B6D4-6274CB5793F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2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르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도 잘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부모님께서도 안녕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hese days, nowadays, recent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지내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o get along (do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부모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떻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how; interrogative adve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떻게 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을 어떻게 만들었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어떻게 생겼습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	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께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; honorific expression of 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선생님께서 이야기하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할아버지께서 오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아버지께서 신문을 읽으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lso, too; a subject/object post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저도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좋습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도 압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음식도 맛있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Particle? Or Post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맑은 고딕"/>
              </a:rPr>
              <a:t>Make nouns/prenouns into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ject/object/possesive for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quivalent array ( ~ and ~, ~ or ~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djective or adverbe phra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맑은 고딕"/>
              </a:rPr>
              <a:t>Postpositions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씨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r. (Ms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ofess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르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e, exist, pres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usba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친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rie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augh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esi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rector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어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if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l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youn ger br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,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장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일러 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부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 교수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임지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윤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24T14:40:06Z</dcterms:modified>
  <cp:revision>70</cp:revision>
  <dc:subject/>
  <dc:title>KOREAN LANGUAGE</dc:title>
</cp:coreProperties>
</file>